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6.wmf" ContentType="image/x-wmf"/>
  <Override PartName="/ppt/media/image25.wmf" ContentType="image/x-wmf"/>
  <Override PartName="/ppt/media/image22.png" ContentType="image/png"/>
  <Override PartName="/ppt/media/CASHREG.WAV" ContentType="audio/x-wav"/>
  <Override PartName="/ppt/media/image14.png" ContentType="image/png"/>
  <Override PartName="/ppt/media/image20.png" ContentType="image/png"/>
  <Override PartName="/ppt/media/image18.wmf" ContentType="image/x-wmf"/>
  <Override PartName="/ppt/media/image19.wmf" ContentType="image/x-wmf"/>
  <Override PartName="/ppt/media/image21.png" ContentType="image/png"/>
  <Override PartName="/ppt/media/image23.wmf" ContentType="image/x-wmf"/>
  <Override PartName="/ppt/media/image6.png" ContentType="image/png"/>
  <Override PartName="/ppt/media/image11.png" ContentType="image/png"/>
  <Override PartName="/ppt/media/image30.wmf" ContentType="image/x-wmf"/>
  <Override PartName="/ppt/media/image10.png" ContentType="image/png"/>
  <Override PartName="/ppt/media/image9.png" ContentType="image/png"/>
  <Override PartName="/ppt/media/image17.wmf" ContentType="image/x-wmf"/>
  <Override PartName="/ppt/media/image27.wmf" ContentType="image/x-wmf"/>
  <Override PartName="/ppt/media/image31.jpeg" ContentType="image/jpeg"/>
  <Override PartName="/ppt/media/image2.png" ContentType="image/png"/>
  <Override PartName="/ppt/media/image32.wmf" ContentType="image/x-wmf"/>
  <Override PartName="/ppt/media/image12.png" ContentType="image/png"/>
  <Override PartName="/ppt/media/image28.wmf" ContentType="image/x-wmf"/>
  <Override PartName="/ppt/media/CHIMES.WAV" ContentType="audio/x-wav"/>
  <Override PartName="/ppt/media/image35.wmf" ContentType="image/x-wmf"/>
  <Override PartName="/ppt/media/image15.png" ContentType="image/png"/>
  <Override PartName="/ppt/media/image36.wmf" ContentType="image/x-wmf"/>
  <Override PartName="/ppt/media/image5.png" ContentType="image/png"/>
  <Override PartName="/ppt/media/image8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3.png" ContentType="image/png"/>
  <Override PartName="/ppt/media/image16.gif" ContentType="image/gif"/>
  <Override PartName="/ppt/media/sn00542a.wav" ContentType="audio/x-wav"/>
  <Override PartName="/ppt/media/image7.wmf" ContentType="image/x-wmf"/>
  <Override PartName="/ppt/media/image3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A542-2CAE-4BED-ABE0-1F723F84D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06360" y="2209680"/>
            <a:ext cx="2235240" cy="16765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409760" y="1905120"/>
            <a:ext cx="2438280" cy="18288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133720" y="1295280"/>
            <a:ext cx="2539800" cy="19051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930320" y="2362320"/>
            <a:ext cx="1727280" cy="1295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44DF-CD96-4A7D-AD6C-FA774B1E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26F-ECB8-46BB-9BC5-F0F32C36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677-46FC-418C-8DB1-B36DA6CE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7A68-1AD3-45DB-A7A4-4B75DAB7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EB76-0A1C-4E16-9DD5-44EE202A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20AC-3A3B-41ED-AB1F-5FA7B5C9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4536-DAD8-4FC2-82A5-A521E140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E714-0EC9-446B-A911-78A8CD4B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EA35-63D5-4573-AE2E-6C2565F7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792B-A889-47C1-9A6D-8AC031B1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C5BF-6F6F-419A-BF72-79F5BB5F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336-587C-4248-B592-12C5FF73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ED6B-46B6-49FF-A7CC-09CEABA6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AEE2-85C0-4332-BC48-72F0E03F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8102-CA6E-44DE-9D86-F71BB586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A205-3150-4404-9D0E-E97CE7E8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321A-FBA8-4289-84FA-9926DDA2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A8A-B99A-4253-B1D9-9B2C798D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D4D-6755-4133-B3AE-E77DD18C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A2A-7626-4F3B-864A-A73A44CA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9CA7-E387-4211-8BE5-7316F11E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EF1-35D3-4FBE-A388-DC79FA7E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663-8AB6-40B3-9BE6-7531BA13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152-92D4-4E03-BEA4-7792E4AB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2CE4-C329-4076-AFE2-3B20EC26FA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CB78-E8BE-48BE-8E8D-C5628F8A5F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audio" Target="../media/sn00542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28.wmf"/><Relationship Id="rId5" Type="http://schemas.openxmlformats.org/officeDocument/2006/relationships/image" Target="../media/image31.jpeg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hyperlink" Target="http://www.labour.gov.sk.ca/" TargetMode="External"/><Relationship Id="rId3" Type="http://schemas.openxmlformats.org/officeDocument/2006/relationships/hyperlink" Target="http://www.labour.gov.sk.ca/" TargetMode="External"/><Relationship Id="rId4" Type="http://schemas.openxmlformats.org/officeDocument/2006/relationships/hyperlink" Target="http://www.labour.gov.sk.ca/" TargetMode="External"/><Relationship Id="rId5" Type="http://schemas.openxmlformats.org/officeDocument/2006/relationships/hyperlink" Target="http://www.labour.gov.sk.ca/" TargetMode="External"/><Relationship Id="rId6" Type="http://schemas.openxmlformats.org/officeDocument/2006/relationships/hyperlink" Target="http://www.labour.gov.sk.ca/" TargetMode="External"/><Relationship Id="rId7" Type="http://schemas.openxmlformats.org/officeDocument/2006/relationships/hyperlink" Target="http://www.labour.gov.sk.ca/" TargetMode="External"/><Relationship Id="rId8" Type="http://schemas.openxmlformats.org/officeDocument/2006/relationships/hyperlink" Target="http://www.labour.gov.sk.ca/" TargetMode="External"/><Relationship Id="rId9" Type="http://schemas.openxmlformats.org/officeDocument/2006/relationships/hyperlink" Target="http://www.labour.gov.sk.ca/" TargetMode="External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685800" y="660240"/>
          <a:ext cx="722160" cy="7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60240"/>
                    <a:ext cx="72216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360440" y="609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Saskatchewan Labou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8380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Presentat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320" y="6084720"/>
          <a:ext cx="1447560" cy="6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6084720"/>
                    <a:ext cx="144756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752480" y="1905120"/>
          <a:ext cx="6248520" cy="487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1905120"/>
                    <a:ext cx="624852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828800" y="1523880"/>
            <a:ext cx="624852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33"/>
                </a:solidFill>
                <a:latin typeface="Arial Black"/>
              </a:rPr>
              <a:t>Labour Standar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5000"/>
              </a:lnSpc>
              <a:spcBef>
                <a:spcPts val="2999"/>
              </a:spcBef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33"/>
                </a:solidFill>
                <a:latin typeface="Arial Black"/>
              </a:rPr>
              <a:t>for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5000"/>
              </a:lnSpc>
              <a:spcBef>
                <a:spcPts val="2999"/>
              </a:spcBef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33"/>
                </a:solidFill>
                <a:latin typeface="Arial Black"/>
              </a:rPr>
              <a:t>Young Worker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0BD-4C92-4BAD-A040-5EA31EB04AA8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905120"/>
            <a:ext cx="6248520" cy="2057400"/>
          </a:xfrm>
          <a:prstGeom prst="downArrowCallout">
            <a:avLst>
              <a:gd name="adj1" fmla="val 75934"/>
              <a:gd name="adj2" fmla="val 75927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Employees in hotels, restaurants, educational institutions, hospitals, or nursing ho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962520"/>
            <a:ext cx="4876560" cy="2666880"/>
          </a:xfrm>
          <a:prstGeom prst="rightArrowCallout">
            <a:avLst>
              <a:gd name="adj1" fmla="val 32290"/>
              <a:gd name="adj2" fmla="val 25912"/>
              <a:gd name="adj3" fmla="val 50709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Employees who finish work between 12:30 a.m. and 7:00 a.m. local 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3657600"/>
            <a:ext cx="2743200" cy="281952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819520"/>
              <a:gd name="textAreaBottom" fmla="*/ 2685600 h 2819520"/>
            </a:gdLst>
            <a:ahLst/>
            <a:rect l="textAreaLeft" t="textAreaTop" r="textAreaRight" b="textAreaBottom"/>
            <a:pathLst>
              <a:path w="21600" h="22201">
                <a:moveTo>
                  <a:pt x="3600" y="0"/>
                </a:moveTo>
                <a:arcTo wR="3600" hR="3600" stAng="16200000" swAng="-5400000"/>
                <a:lnTo>
                  <a:pt x="0" y="18601"/>
                </a:lnTo>
                <a:arcTo wR="3600" hR="3600" stAng="10800000" swAng="-5400000"/>
                <a:lnTo>
                  <a:pt x="18000" y="222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29"/>
                </a:solidFill>
                <a:latin typeface="Comic Sans MS"/>
              </a:rPr>
              <a:t>must be provided free of charge to the employee’s place of residen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ransportation Home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50D-BB07-40B4-890C-C9594ADD3716}" type="slidenum">
              <a:t>10</a:t>
            </a:fld>
          </a:p>
        </p:txBody>
      </p:sp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962520" y="1752480"/>
          <a:ext cx="27921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752480"/>
                    <a:ext cx="2792160" cy="3886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6095880" y="852480"/>
            <a:ext cx="24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Overtim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533520"/>
            <a:ext cx="2362320" cy="1981080"/>
          </a:xfrm>
          <a:prstGeom prst="wedgeEllipseCallout">
            <a:avLst>
              <a:gd name="adj1" fmla="val 144759"/>
              <a:gd name="adj2" fmla="val 2940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workers are paid over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1337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876920"/>
            <a:ext cx="3200400" cy="990360"/>
          </a:xfrm>
          <a:prstGeom prst="wedgeEllipseCallout">
            <a:avLst>
              <a:gd name="adj1" fmla="val 64833"/>
              <a:gd name="adj2" fmla="val -204328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 hours/week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4876920"/>
            <a:ext cx="3962520" cy="1981080"/>
          </a:xfrm>
          <a:prstGeom prst="wedgeEllipseCallout">
            <a:avLst>
              <a:gd name="adj1" fmla="val -10134"/>
              <a:gd name="adj2" fmla="val -159212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2 hours in a week in which a public holiday occurs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048120"/>
            <a:ext cx="2971800" cy="1523880"/>
          </a:xfrm>
          <a:prstGeom prst="wedgeEllipseCallout">
            <a:avLst>
              <a:gd name="adj1" fmla="val -45726"/>
              <a:gd name="adj2" fmla="val -105833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a rate of 1.5 x hourly w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2590920"/>
            <a:ext cx="2743200" cy="1447560"/>
          </a:xfrm>
          <a:prstGeom prst="wedgeEllipseCallout">
            <a:avLst>
              <a:gd name="adj1" fmla="val 100925"/>
              <a:gd name="adj2" fmla="val -44189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ter working 8 hours/day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152-C068-4E29-9BFD-687AA35DCBA8}" type="slidenum">
              <a:t>11</a:t>
            </a:fld>
          </a:p>
        </p:txBody>
      </p:sp>
    </p:spTree>
  </p:cSld>
  <p:transition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BibleScrT"/>
              </a:rPr>
              <a:t> </a:t>
            </a: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Overtime </a:t>
            </a:r>
            <a:br>
              <a:rPr sz="4800"/>
            </a:b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0574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ome workers are not eligible for overtime pay such a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35812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Comic Sans MS"/>
                <a:ea typeface="Microsoft Sans Serif"/>
              </a:rPr>
              <a:t>•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manag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426708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4720" indent="-504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Comic Sans MS"/>
                <a:ea typeface="Microsoft Sans Serif"/>
              </a:rPr>
              <a:t>•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eople working north of Township 62, except within a 10 km. radius of La Ronge, Creighton and Uranium C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315200" y="2540160"/>
            <a:ext cx="1828800" cy="187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FBB6-E668-4112-A9DE-2FFF7FDFACDC}" type="slidenum">
              <a:t>12</a:t>
            </a:fld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Workers get work schedules which give one week’s notice of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ork Schedules </a:t>
            </a:r>
            <a:br>
              <a:rPr sz="4800"/>
            </a:b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29076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9760" indent="-23976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work days and hou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39304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work start and end   ti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50292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times of meal brea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553068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hanges to work schedu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16120" y="3100320"/>
          <a:ext cx="2612880" cy="36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3100320"/>
                    <a:ext cx="261288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7DF-07C3-4F6C-ABD4-62FBF760BBDC}" type="slidenum">
              <a:t>13</a:t>
            </a:fld>
          </a:p>
        </p:txBody>
      </p:sp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0" y="53499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Meal Breaks</a:t>
            </a:r>
            <a:r>
              <a:rPr b="0" i="1" lang="en-US" sz="3600" spc="-1" strike="noStrike">
                <a:solidFill>
                  <a:srgbClr val="ffcc66"/>
                </a:solidFill>
                <a:latin typeface="Bremen Blk BT"/>
              </a:rPr>
              <a:t> 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2880" y="243792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Workers who are scheduled to work 6 hours or more get an unpai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30-minute meal break for every five consecutive hours of work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762120" y="3581280"/>
            <a:ext cx="3809880" cy="201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BA1-681E-492B-9824-E73B2A9AA4BE}" type="slidenum">
              <a:t>14</a:t>
            </a:fld>
          </a:p>
        </p:txBody>
      </p:sp>
    </p:spTree>
  </p:cSld>
  <p:transition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n00542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2359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1294920"/>
            <a:ext cx="684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Days Off</a:t>
            </a:r>
            <a:br>
              <a:rPr sz="2800"/>
            </a:br>
            <a:br>
              <a:rPr sz="2800"/>
            </a:b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1905120"/>
            <a:ext cx="54864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One day off in every seven days for employees who are usually employed for 20 or more hours/we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98520" indent="-39852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2895480" cy="21985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00400" y="4114800"/>
            <a:ext cx="563868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buClr>
                <a:srgbClr val="ffffcc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Two days off in every seven if employees work 20 or more hours a week in retail and there are 10 or more employees in the busin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8040" indent="-338040">
              <a:lnSpc>
                <a:spcPct val="70000"/>
              </a:lnSpc>
              <a:buClr>
                <a:srgbClr val="ffffcc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CB7-64C1-4D0B-8E36-7496EC484700}" type="slidenum">
              <a:t>15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14600" y="5556240"/>
            <a:ext cx="1600200" cy="1225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Illness/Injury</a:t>
            </a:r>
            <a:r>
              <a:rPr b="1" i="1" lang="en-US" sz="4800" spc="-1" strike="noStrike">
                <a:solidFill>
                  <a:srgbClr val="ffcc66"/>
                </a:solidFill>
                <a:latin typeface="BibleScrT"/>
              </a:rPr>
              <a:t> 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71952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ot serious                         12 days in a calendar ye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44053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rious                                12 weeks in  a 52 wee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eri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33560" y="5334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CB                                    26 wee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62120" y="2514600"/>
            <a:ext cx="7619760" cy="838080"/>
            <a:chOff x="762120" y="2514600"/>
            <a:chExt cx="7619760" cy="838080"/>
          </a:xfrm>
        </p:grpSpPr>
        <p:sp>
          <p:nvSpPr>
            <p:cNvPr id="207" name=""/>
            <p:cNvSpPr/>
            <p:nvPr/>
          </p:nvSpPr>
          <p:spPr>
            <a:xfrm>
              <a:off x="4682520" y="2514600"/>
              <a:ext cx="362484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Length of Protected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bsence (unpaid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83880" y="2685600"/>
              <a:ext cx="32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Type of Illness/Injur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3352680"/>
              <a:ext cx="761976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CC6-84FA-4A54-9B7E-A51EDC16013A}" type="slidenum">
              <a:t>16</a:t>
            </a:fld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en-US" sz="4800" spc="-1" strike="noStrike">
                <a:solidFill>
                  <a:srgbClr val="ffcc66"/>
                </a:solidFill>
                <a:latin typeface="BibleScrT"/>
              </a:rPr>
              <a:t>	</a:t>
            </a:r>
            <a:r>
              <a:rPr b="0" i="1" lang="en-US" sz="4800" spc="-1" strike="noStrike">
                <a:solidFill>
                  <a:srgbClr val="ffcc66"/>
                </a:solidFill>
                <a:latin typeface="BibleScrT"/>
              </a:rPr>
              <a:t>	</a:t>
            </a:r>
            <a:r>
              <a:rPr b="0" i="1" lang="en-US" sz="4800" spc="-1" strike="noStrike">
                <a:solidFill>
                  <a:srgbClr val="ffcc66"/>
                </a:solidFill>
                <a:latin typeface="BibleScrT"/>
              </a:rPr>
              <a:t>	</a:t>
            </a: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Laying-off Employees </a:t>
            </a:r>
            <a:r>
              <a:rPr b="1" i="1" lang="en-US" sz="4800" spc="-1" strike="noStrike">
                <a:solidFill>
                  <a:srgbClr val="ffcc66"/>
                </a:solidFill>
                <a:latin typeface="BibleScrT"/>
              </a:rPr>
              <a:t> </a:t>
            </a:r>
            <a:br>
              <a:rPr sz="4800"/>
            </a:b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0" y="4876920"/>
            <a:ext cx="2286000" cy="167796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1087560" y="2986200"/>
            <a:ext cx="6858000" cy="520560"/>
            <a:chOff x="1087560" y="2986200"/>
            <a:chExt cx="6858000" cy="520560"/>
          </a:xfrm>
        </p:grpSpPr>
        <p:sp>
          <p:nvSpPr>
            <p:cNvPr id="213" name=""/>
            <p:cNvSpPr/>
            <p:nvPr/>
          </p:nvSpPr>
          <p:spPr>
            <a:xfrm>
              <a:off x="1087560" y="29862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0 - 3 mos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02360" y="29862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0 week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09520" y="3747960"/>
            <a:ext cx="6553080" cy="596880"/>
            <a:chOff x="1109520" y="3747960"/>
            <a:chExt cx="6553080" cy="596880"/>
          </a:xfrm>
        </p:grpSpPr>
        <p:sp>
          <p:nvSpPr>
            <p:cNvPr id="216" name=""/>
            <p:cNvSpPr/>
            <p:nvPr/>
          </p:nvSpPr>
          <p:spPr>
            <a:xfrm>
              <a:off x="1109520" y="38242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3 mos. - 1 year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4320" y="374796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1 week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066680" y="4510080"/>
            <a:ext cx="6553080" cy="596880"/>
            <a:chOff x="1066680" y="4510080"/>
            <a:chExt cx="6553080" cy="596880"/>
          </a:xfrm>
        </p:grpSpPr>
        <p:sp>
          <p:nvSpPr>
            <p:cNvPr id="219" name=""/>
            <p:cNvSpPr/>
            <p:nvPr/>
          </p:nvSpPr>
          <p:spPr>
            <a:xfrm>
              <a:off x="1066680" y="45864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1 - 3 year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81480" y="4510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2 week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109520" y="5348160"/>
            <a:ext cx="6781680" cy="596520"/>
            <a:chOff x="1109520" y="5348160"/>
            <a:chExt cx="6781680" cy="596520"/>
          </a:xfrm>
        </p:grpSpPr>
        <p:sp>
          <p:nvSpPr>
            <p:cNvPr id="222" name=""/>
            <p:cNvSpPr/>
            <p:nvPr/>
          </p:nvSpPr>
          <p:spPr>
            <a:xfrm>
              <a:off x="1109520" y="542412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3 - 5 year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24320" y="534816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4</a:t>
              </a:r>
              <a:r>
                <a:rPr b="0" lang="en-US" sz="2400" spc="-1" strike="noStrike">
                  <a:solidFill>
                    <a:srgbClr val="ffffcc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week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62120" y="2071800"/>
            <a:ext cx="7696080" cy="520560"/>
            <a:chOff x="762120" y="2071800"/>
            <a:chExt cx="7696080" cy="520560"/>
          </a:xfrm>
        </p:grpSpPr>
        <p:sp>
          <p:nvSpPr>
            <p:cNvPr id="225" name=""/>
            <p:cNvSpPr/>
            <p:nvPr/>
          </p:nvSpPr>
          <p:spPr>
            <a:xfrm>
              <a:off x="762120" y="2071800"/>
              <a:ext cx="373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Employment Period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24280" y="2071800"/>
              <a:ext cx="37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Notice Required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143000" y="5676840"/>
            <a:ext cx="6400800" cy="457200"/>
            <a:chOff x="1143000" y="5676840"/>
            <a:chExt cx="6400800" cy="457200"/>
          </a:xfrm>
        </p:grpSpPr>
        <p:sp>
          <p:nvSpPr>
            <p:cNvPr id="228" name=""/>
            <p:cNvSpPr/>
            <p:nvPr/>
          </p:nvSpPr>
          <p:spPr>
            <a:xfrm>
              <a:off x="1143000" y="5676840"/>
              <a:ext cx="3657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57800" y="5676840"/>
              <a:ext cx="2286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0643-746F-4BE3-80D0-744C35BF5A0E}" type="slidenum">
              <a:t>17</a:t>
            </a:fld>
          </a:p>
        </p:txBody>
      </p:sp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When notice is not given, the employee must be paid his/her regular wages in lieu of the notice time requir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752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Pay in Lieu of Notice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C650-0FC6-498D-B59A-CE8B9261E0B9}" type="slidenum">
              <a:t>18</a:t>
            </a:fld>
          </a:p>
        </p:txBody>
      </p:sp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Annual Holiday Pay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19810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Annual holiday pay is paid to all employees including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33526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full-ti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3900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art-ti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44197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asu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4952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tempor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54864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eas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518080" y="3062160"/>
          <a:ext cx="2414520" cy="31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8080" y="3062160"/>
                    <a:ext cx="2414520" cy="31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763-4AEA-4ABA-ABFC-9D19BB1CF9E0}" type="slidenum">
              <a:t>19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Labour Standards Act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220968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3429000" y="3581280"/>
            <a:ext cx="42670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2120" indent="-222120">
              <a:lnSpc>
                <a:spcPct val="100000"/>
              </a:lnSpc>
              <a:spcBef>
                <a:spcPts val="13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923080" y="2209680"/>
          <a:ext cx="18493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3080" y="2209680"/>
                    <a:ext cx="18493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762120" y="1981080"/>
            <a:ext cx="4800600" cy="1295640"/>
          </a:xfrm>
          <a:prstGeom prst="wedgeRoundRectCallout">
            <a:avLst>
              <a:gd name="adj1" fmla="val 70171"/>
              <a:gd name="adj2" fmla="val 3800"/>
              <a:gd name="adj3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ects workers by setting rules for minimum conditions of employ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733920"/>
            <a:ext cx="4952880" cy="1828800"/>
          </a:xfrm>
          <a:prstGeom prst="wedgeEllipseCallout">
            <a:avLst>
              <a:gd name="adj1" fmla="val 78111"/>
              <a:gd name="adj2" fmla="val -8055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sures what we value as a society is reflected in our workplace ru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095880"/>
            <a:ext cx="5257800" cy="685800"/>
          </a:xfrm>
          <a:prstGeom prst="wedgeRectCallout">
            <a:avLst>
              <a:gd name="adj1" fmla="val 69050"/>
              <a:gd name="adj2" fmla="val -342592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iminates unfair competi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884-8928-42D9-81D0-1272EA7D5150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Annual Holiday Pay</a:t>
            </a:r>
            <a:r>
              <a:rPr b="1" i="1" lang="en-US" sz="4800" spc="-1" strike="noStrike">
                <a:solidFill>
                  <a:srgbClr val="ffcc66"/>
                </a:solidFill>
                <a:latin typeface="BibleScrT"/>
              </a:rPr>
              <a:t> 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1337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alculated on total wages over a 12-month period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2004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1576"/>
              </a:spcBef>
              <a:spcAft>
                <a:spcPts val="1576"/>
              </a:spcAft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multiply wages by 3/52 (about 6%).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098960"/>
            <a:ext cx="7772400" cy="31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Wages for 12 months:       $4000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Annual Holiday Pa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$4000 x 3/52 (6%) =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$230.7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867280" y="4572000"/>
            <a:ext cx="2865600" cy="210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72F-D625-4059-B3B4-C337806A08D8}" type="slidenum">
              <a:t>20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Annual Holiday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2895480"/>
            <a:ext cx="7162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Most employees are entitled to a minimum of three weeks after each year of employment and a minimum of four weeks upon completion of 10 years with the same employ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1995480"/>
            <a:ext cx="4876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162920" y="49528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0E7-53D4-4FCC-81AB-BE53CE441AAB}" type="slidenum">
              <a:t>21</a:t>
            </a:fld>
          </a:p>
        </p:txBody>
      </p:sp>
    </p:spTree>
  </p:cSld>
  <p:transition>
    <p:random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Public Holidays </a:t>
            </a:r>
            <a:br>
              <a:rPr sz="4800"/>
            </a:b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37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14400" y="2057400"/>
            <a:ext cx="7848720" cy="4495680"/>
            <a:chOff x="914400" y="2057400"/>
            <a:chExt cx="7848720" cy="449568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1301760" y="3200400"/>
              <a:ext cx="22795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4800600" y="5029200"/>
              <a:ext cx="335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Remembrance Da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14400" y="20574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New Year’s Da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14400" y="266688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Good Frida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14400" y="33526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Victoria Da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00600" y="5729400"/>
              <a:ext cx="380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Christmas Da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213372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Canada Da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00600" y="2819520"/>
              <a:ext cx="37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Saskatchewan Da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00600" y="35812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Labour Da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00600" y="42670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Thanksgiving Da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BF7-B3DD-4172-ADC3-636925C88EB4}" type="slidenum">
              <a:t>22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Public Holiday Pay</a:t>
            </a:r>
            <a:r>
              <a:rPr b="1" i="1" lang="en-US" sz="4800" spc="-1" strike="noStrike">
                <a:solidFill>
                  <a:srgbClr val="ffcc66"/>
                </a:solidFill>
                <a:latin typeface="BibleScrT"/>
              </a:rPr>
              <a:t> </a:t>
            </a:r>
            <a:br>
              <a:rPr sz="4800"/>
            </a:b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697880" y="2705040"/>
          <a:ext cx="121752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7880" y="2705040"/>
                    <a:ext cx="12175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304920" y="1981080"/>
            <a:ext cx="6095880" cy="4953240"/>
          </a:xfrm>
          <a:prstGeom prst="cloudCallout">
            <a:avLst>
              <a:gd name="adj1" fmla="val 73856"/>
              <a:gd name="adj2" fmla="val -3009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employees get public holiday pay of 1/20 (5%) of the worker’s regular wages earned during the four weeks prior to the holiday (equal to about a regular day’s w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6DA-91A9-4211-85C6-ED0885082B88}" type="slidenum">
              <a:t>23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Public Holiday Pay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2895480"/>
            <a:ext cx="571500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74600" indent="-174600">
              <a:lnSpc>
                <a:spcPct val="15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4 weeks wages:            $4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74600" indent="-17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ublic Holiday Pay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74600" indent="-17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1/20 or 5% x $400) = $2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971800" cy="268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BAE-1D2A-4564-ABCD-47CF17CA79D4}" type="slidenum">
              <a:t>24</a:t>
            </a:fld>
          </a:p>
        </p:txBody>
      </p:sp>
    </p:spTree>
  </p:cSld>
  <p:transition>
    <p:random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Payment for Work </a:t>
            </a: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on a Public Holiday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If you work on a public holiday, you  get paid a premium rate (time and one half) for all hours worked. This in addition to public holiday p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91120" y="2590920"/>
            <a:ext cx="4114800" cy="29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9760" indent="-239760" algn="ctr">
              <a:lnSpc>
                <a:spcPct val="100000"/>
              </a:lnSpc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Public Holiday P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BibleScrT"/>
              </a:rPr>
              <a:t>Premium P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9760" indent="-23976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(1.5 x hours worked on the public holiday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858000" y="5276880"/>
            <a:ext cx="2362320" cy="173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279-39B5-485D-9916-85D40132D907}" type="slidenum">
              <a:t>25</a:t>
            </a:fld>
          </a:p>
        </p:txBody>
      </p:sp>
    </p:spTree>
  </p:cSld>
  <p:transition>
    <p:random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spcBef>
                <a:spcPts val="21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Pay Cheque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800240" y="228564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Only deductions required by law (Employment Insurance, Income Tax, C.P.P.) or voluntary employee purchases from the employer, may be taken from wag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35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37BD-FD27-43C1-B30A-74C672D2F2F2}" type="slidenum">
              <a:t>26</a:t>
            </a:fld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931280" y="762120"/>
            <a:ext cx="344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Pay Chequ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2828880" cy="25146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04920" y="19810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Your employer must provide a pay stub which gives information such as: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3255840"/>
            <a:ext cx="53337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ay peri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hours worked (regular and overtime) and rate of pa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list of dedu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total earnings and actual payment ma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735-6644-48D2-BAE1-43E39F5EC695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1584360" cy="16002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Equal Pay</a:t>
            </a:r>
            <a:r>
              <a:rPr b="0" i="1" lang="en-US" sz="3600" spc="-1" strike="noStrike">
                <a:solidFill>
                  <a:srgbClr val="ffcc66"/>
                </a:solidFill>
                <a:latin typeface="Bremen Blk BT"/>
              </a:rPr>
              <a:t> 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Male and female employees are entitled to equal pay when they perform similar work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320040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in the same establish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4120" y="419112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under similar working condi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533412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requiring similar skill,effort,and responsi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971800" y="3352680"/>
            <a:ext cx="2052720" cy="27561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0" y="5351400"/>
            <a:ext cx="1523880" cy="15066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3352680" y="5334120"/>
            <a:ext cx="1509840" cy="15238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1919160" y="4572000"/>
            <a:ext cx="1509840" cy="2286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919080" y="5334120"/>
            <a:ext cx="14432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3FF-071F-4704-AE2A-327D22956566}" type="slidenum">
              <a:t>28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3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Equal Pay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943760" y="4038480"/>
          <a:ext cx="12002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43760" y="4038480"/>
                    <a:ext cx="12002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304920" y="2057400"/>
          <a:ext cx="979200" cy="26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057400"/>
                    <a:ext cx="979200" cy="26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228600" y="4343400"/>
            <a:ext cx="5791320" cy="1981080"/>
          </a:xfrm>
          <a:prstGeom prst="wedgeEllipseCallout">
            <a:avLst>
              <a:gd name="adj1" fmla="val 90981"/>
              <a:gd name="adj2" fmla="val -42949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rit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iority, a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inee progra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2057400"/>
            <a:ext cx="4572000" cy="1905120"/>
          </a:xfrm>
          <a:prstGeom prst="wedgeEllipseCallout">
            <a:avLst>
              <a:gd name="adj1" fmla="val -111597"/>
              <a:gd name="adj2" fmla="val -35416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y rates can differ when based o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41E-B065-42EF-8803-1BD866993A49}" type="slidenum">
              <a:t>29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Labour Standards Act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  <a:ea typeface="Microsoft Sans Serif"/>
              </a:rPr>
              <a:t>   </a:t>
            </a:r>
            <a:r>
              <a:rPr b="1" lang="en-US" sz="2400" spc="-1" strike="noStrike">
                <a:solidFill>
                  <a:srgbClr val="ffffcc"/>
                </a:solidFill>
                <a:latin typeface="Comic Sans MS"/>
                <a:ea typeface="Microsoft Sans Serif"/>
              </a:rPr>
              <a:t>The Act </a:t>
            </a: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applies to most Saskatchewan employers and employees, no matter the hours employees work. This includes casual, part-time, seasonal and full-time worke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2340000"/>
            <a:ext cx="3809880" cy="354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79A6-1688-4D47-AF31-5BFF228A5C03}" type="slidenum">
              <a:t>3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Complaints and Enforcement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askatchewan Labour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048120"/>
            <a:ext cx="41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rovides information and advi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4191120"/>
            <a:ext cx="4038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investigates and helps to resolve workplace complaint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648320" y="2208240"/>
            <a:ext cx="3809880" cy="381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73C-97FD-477C-A505-322DFB60301C}" type="slidenum">
              <a:t>30</a:t>
            </a:fld>
          </a:p>
        </p:txBody>
      </p:sp>
    </p:spTree>
  </p:cSld>
  <p:transition>
    <p:random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Complaints and Enforcement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An employee must make a claim for unpaid wages within one year of the time the unpaid wages were du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4432320" cy="39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AB4-5117-406B-A7B5-C71F361A6136}" type="slidenum">
              <a:t>31</a:t>
            </a:fld>
          </a:p>
        </p:txBody>
      </p:sp>
    </p:spTree>
  </p:cSld>
  <p:transition>
    <p:random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Complaints and Enforcement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838080" y="2209680"/>
            <a:ext cx="5486400" cy="4687200"/>
            <a:chOff x="838080" y="2209680"/>
            <a:chExt cx="5486400" cy="4687200"/>
          </a:xfrm>
        </p:grpSpPr>
        <p:sp>
          <p:nvSpPr>
            <p:cNvPr id="312" name=""/>
            <p:cNvSpPr/>
            <p:nvPr/>
          </p:nvSpPr>
          <p:spPr>
            <a:xfrm>
              <a:off x="838080" y="4724280"/>
              <a:ext cx="548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2040" indent="-392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3. Ask for early resolution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8080" y="2209680"/>
              <a:ext cx="510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6560" indent="-466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1. Call Sask. Labour for   information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8080" y="3505320"/>
              <a:ext cx="434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63400" indent="-5634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2. Try to resolve with employer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8080" y="5638680"/>
              <a:ext cx="5334120" cy="12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4. Make a formal complaint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31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019920" y="2743200"/>
            <a:ext cx="2685960" cy="24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CA7-60B0-437C-B261-578F4B24AAE4}" type="slidenum">
              <a:t>32</a:t>
            </a:fld>
          </a:p>
        </p:txBody>
      </p:sp>
    </p:spTree>
  </p:cSld>
  <p:transition>
    <p:random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Complaints and Enforcement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2743200"/>
            <a:ext cx="46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5. Complaint is investigat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4038480"/>
            <a:ext cx="38098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lnSpc>
                <a:spcPct val="85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6. Officer tries to collect money ow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5408640"/>
            <a:ext cx="365760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lnSpc>
                <a:spcPct val="85000"/>
              </a:lnSpc>
              <a:spcBef>
                <a:spcPts val="1225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7. Officer issues wage assessment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281952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4720" indent="-50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8. Employer or                                     employee appeals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94240" y="41148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9. Final decision can be appeal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0F62-8A48-4AD3-91DF-7CC7EE3518C1}" type="slidenum">
              <a:t>33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477120" y="5175360"/>
            <a:ext cx="2438280" cy="1530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750400" y="3048120"/>
            <a:ext cx="4287960" cy="18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1-800-667-178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Comic Sans MS"/>
                <a:hlinkClick r:id="rId2"/>
              </a:rPr>
              <a:t>www.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Comic Sans MS"/>
                <a:hlinkClick r:id="rId3"/>
              </a:rPr>
              <a:t>labour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Comic Sans MS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Comic Sans MS"/>
                <a:hlinkClick r:id="rId5"/>
              </a:rPr>
              <a:t>gov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Comic Sans MS"/>
                <a:hlinkClick r:id="rId6"/>
              </a:rPr>
              <a:t>.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Comic Sans MS"/>
                <a:hlinkClick r:id="rId7"/>
              </a:rPr>
              <a:t>sk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Comic Sans MS"/>
                <a:hlinkClick r:id="rId8"/>
              </a:rPr>
              <a:t>.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Comic Sans MS"/>
                <a:hlinkClick r:id="rId9"/>
              </a:rPr>
              <a:t>www.readyforwork.sk.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Saskatchewan Labour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24382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askatchewan Labou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Labour Standards Divi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6320" y="6084720"/>
          <a:ext cx="1447560" cy="690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320" y="6084720"/>
                    <a:ext cx="144756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48F-3170-47ED-BB9E-590B09837699}" type="slidenum">
              <a:t>34</a:t>
            </a:fld>
          </a:p>
        </p:txBody>
      </p:sp>
    </p:spTree>
  </p:cSld>
  <p:transition>
    <p:random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                           </a:t>
            </a: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Exemp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0574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farm work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573280"/>
            <a:ext cx="4496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employees who work in jobs that are covered by the federal Canada Labour Co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47386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occasional babysit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5332320"/>
            <a:ext cx="41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artial exemptions  (i.e., managers and student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09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0AF-955D-435B-A10B-3FD840316092}" type="slidenum">
              <a:t>4</a:t>
            </a:fld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BibleScrT"/>
              </a:rPr>
              <a:t> </a:t>
            </a: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Labour Standards Act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7960" y="33526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26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•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equal p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2057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Young workers are most often affected by the rules involving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76920" y="4630680"/>
            <a:ext cx="2209680" cy="1998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480" y="33526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ffffcc"/>
              </a:buClr>
              <a:buFont typeface="Comic Sans MS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minimum w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9625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hours of wor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5514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termin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195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ublic holid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7913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annual holid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3962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ayroll cheques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9AC4-4C94-4C5D-A036-2E3DC94F36DF}" type="slidenum">
              <a:t>5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Minimum Wage </a:t>
            </a:r>
            <a:br>
              <a:rPr sz="4800"/>
            </a:b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(as of April1/03)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37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2209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B.C.  $8.00/6.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2819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Alta.  $5.9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3352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Comic Sans MS"/>
              </a:rPr>
              <a:t>Sask.  $6.65</a:t>
            </a:r>
            <a:r>
              <a:rPr b="0" lang="en-US" sz="2800" spc="-1" strike="noStrike">
                <a:solidFill>
                  <a:srgbClr val="cc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35000" y="3962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Man.  $6.7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4572000"/>
            <a:ext cx="44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Ont.  $6.85/6.40/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$5.9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35000" y="5576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Que.  $7.30/6.5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560" y="2133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7412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N.B.  $6.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13240" y="2743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239760"/>
                <a:tab algn="l" pos="392040"/>
                <a:tab algn="l" pos="69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N.S.  $6.00/5.5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3720" y="33526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.E.I.  $6.2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81560" y="3962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Nfld.  $6.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42000" y="4572000"/>
            <a:ext cx="40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N.W.T.  $7.00/6.5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37280" y="5181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Yukon  $7.2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11760" y="57913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Nunavut  $7.00/6.5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888-A9E0-4C13-8739-9E28D9E7CE35}" type="slidenum">
              <a:t>6</a:t>
            </a:fld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66"/>
                </a:solidFill>
                <a:latin typeface="BibleScrT"/>
              </a:rPr>
              <a:t> </a:t>
            </a: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Minimum Callout 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Comic Sans MS"/>
                <a:ea typeface="Microsoft Sans Serif"/>
              </a:rPr>
              <a:t>• </a:t>
            </a:r>
            <a:r>
              <a:rPr b="1" lang="en-US" sz="2600" spc="-1" strike="noStrike">
                <a:solidFill>
                  <a:srgbClr val="ffffcc"/>
                </a:solidFill>
                <a:latin typeface="Comic Sans MS"/>
                <a:ea typeface="Microsoft Sans Serif"/>
              </a:rPr>
              <a:t>M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ost employees are entitled to a minimum payment of $19.95 every time their employer calls them out (or in) to work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647960" y="2209320"/>
            <a:ext cx="3809880" cy="4045320"/>
            <a:chOff x="4647960" y="2209320"/>
            <a:chExt cx="3809880" cy="4045320"/>
          </a:xfrm>
        </p:grpSpPr>
        <p:sp>
          <p:nvSpPr>
            <p:cNvPr id="152" name="PlaceHolder 3"/>
            <p:cNvSpPr>
              <a:spLocks noGrp="1"/>
            </p:cNvSpPr>
            <p:nvPr>
              <p:ph/>
            </p:nvPr>
          </p:nvSpPr>
          <p:spPr>
            <a:xfrm>
              <a:off x="4647960" y="2209320"/>
              <a:ext cx="380988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 fontScale="96000"/>
            </a:bodyPr>
            <a:p>
              <a:pPr marL="329040" indent="0">
                <a:lnSpc>
                  <a:spcPct val="100000"/>
                </a:lnSpc>
                <a:spcBef>
                  <a:spcPts val="7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cc"/>
                  </a:solidFill>
                  <a:latin typeface="Comic Sans MS"/>
                  <a:ea typeface="Microsoft Sans Serif"/>
                </a:rPr>
                <a:t>• </a:t>
              </a:r>
              <a:r>
                <a:rPr b="1" lang="en-US" sz="2600" spc="-1" strike="noStrike">
                  <a:solidFill>
                    <a:srgbClr val="ffffcc"/>
                  </a:solidFill>
                  <a:latin typeface="Comic Sans MS"/>
                  <a:ea typeface="Microsoft Sans Serif"/>
                </a:rPr>
                <a:t>F</a:t>
              </a: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ull-time students are exempt during the school year.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4724280" y="3809880"/>
              <a:ext cx="3657600" cy="244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0DD-C90D-400D-9B5C-F13C9E544C73}" type="slidenum">
              <a:t>7</a:t>
            </a:fld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Coffee Break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8320" y="2286000"/>
            <a:ext cx="396216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•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offee breaks are not covered by Saskatchewan’s Labour Standards Ac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2416320"/>
            <a:ext cx="3809880" cy="3395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724280" y="480060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If provided, rest breaks (coffee breaks) are paid break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3EB-7D98-475E-BB6E-0457A444ECAD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93680" y="4191120"/>
          <a:ext cx="117792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4191120"/>
                    <a:ext cx="11779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09720" y="5331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ffcc66"/>
                </a:solidFill>
                <a:latin typeface="Times New Roman"/>
              </a:rPr>
              <a:t>Uniform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22860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4800600"/>
            <a:ext cx="51055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>
              <a:lnSpc>
                <a:spcPct val="120000"/>
              </a:lnSpc>
              <a:spcBef>
                <a:spcPts val="15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69920">
              <a:lnSpc>
                <a:spcPct val="120000"/>
              </a:lnSpc>
              <a:spcBef>
                <a:spcPts val="15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848720" y="1967040"/>
          <a:ext cx="1168200" cy="29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1967040"/>
                    <a:ext cx="116820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 rot="117000">
            <a:off x="380880" y="1447920"/>
            <a:ext cx="5131080" cy="2971800"/>
          </a:xfrm>
          <a:prstGeom prst="wedgeEllipseCallout">
            <a:avLst>
              <a:gd name="adj1" fmla="val 98888"/>
              <a:gd name="adj2" fmla="val -2881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6200" indent="-428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Employers in hotels, restaurants, educational institutions, hospitals, or nursing homes who require their employees to wear unifor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800600"/>
            <a:ext cx="5638680" cy="2057400"/>
          </a:xfrm>
          <a:prstGeom prst="wedgeEllipseCallout">
            <a:avLst>
              <a:gd name="adj1" fmla="val -91777"/>
              <a:gd name="adj2" fmla="val -6373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6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shall provide, repair and launder that uniform free of charge and shall not deduct the cost from your wag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09D-42F5-4AFF-85A3-2C39582E0F8C}" type="slidenum">
              <a:t>9</a:t>
            </a:fld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21:15:35Z</dcterms:created>
  <dc:creator>Saskatchewan Labour</dc:creator>
  <dc:description/>
  <dc:language>en-US</dc:language>
  <cp:lastModifiedBy>Prairie South</cp:lastModifiedBy>
  <dcterms:modified xsi:type="dcterms:W3CDTF">2009-03-01T20:59:15Z</dcterms:modified>
  <cp:revision>111</cp:revision>
  <dc:subject/>
  <dc:title>Students in the Workplace</dc:title>
</cp:coreProperties>
</file>